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4970-D1EB-4E89-9AFD-5B5FBEEE1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s that add fluoride to their water have a higher cancer rate than those that don'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F7A8-DA18-4003-8A68-6E27A0130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94B9-6A31-4E07-99C9-4C608A77D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at http://www.npr.org/templates/story/story.php?storyId=4542341. If you reallay love math, you will find a detailed account on Wikip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CDEB-456F-453C-88A8-FAAA77B2D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hi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npr.org/templates/story/story.php?storyId=45423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F8CA-1197-4272-BCE2-FE557C107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0AA8-2EA5-4F27-8D1A-5AEC71BBE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1% of gynecologists get the right answer (B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304B-AD68-4EEC-A7BC-540F7EC8F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's wrong with these pictu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areful reading of the whole article (buried several pages into the paper) reveals a different stor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The ranking graph covers an 11 year period, the tuition graph 35 years, yet they are shown simultaneously (the same apparent width) on the same horizontal "scale"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The vertical scale for tuition and ranking could not possibly have common units, but the ranking graph is placed under the tuition graph creating the impression that cost exceeds qual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The differing time units are cleverly disguised by printing them rotated 90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And here is the masterstroke: the sharp "drop" in the ranking graph over the past few years actually represents the fact that Cornell's rank has IMPROVED from 15th TO 6th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3 vs. 1/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f - Larger denominator is big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36 vs. 4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f - Numbers with more digits are big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vs. 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1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f - More letters mean bigger unit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A841-5C59-4A49-B2BB-AD93FAA0B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2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36 x 10 = 2.3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6A89-00DF-4471-9857-22B5D261C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E37-D021-4518-907F-90C6D31D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145-DFDB-4DCA-B03A-F46E256F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207-5B32-4E86-886E-443B3D5F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985-B84E-4CB3-A8AC-3D597C75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5F74-B3DB-4932-9849-9AE72FBD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9832-C7B2-4BC9-9A0E-64F94505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A4F7-AC69-4C98-A74B-D323FA86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D692-429E-4991-A141-37DF2AF6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841B-502F-43FB-9690-FD6109A0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D032-BC6B-4697-A679-FF0E5B3F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2321-DFD0-439F-89C9-E8851C57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500-9E7A-4B86-B74E-7E47E9E2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F9E1-DCBF-41CF-9DB0-6B08104B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CC65-B0E0-4925-9476-697CAB50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6660-3289-40FD-93CD-4ADB5EDF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8FDF-A2AD-46A2-B859-2C041FC2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5202-F389-4260-9506-1C322B94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D8D3-3E32-4834-BD58-8ACA2BBC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67B62-E33E-419A-9534-598907ED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9C6DB-2280-42AC-8AA7-4251D8DA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D6CE1-917A-426C-BE25-08354EAE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79AB-3EEF-4AFA-8575-12AA39D1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35D-8436-4164-8489-2C7BA00D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EAF0E-1716-4E0A-9449-4217526B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6A74-902C-404B-90CB-4D3261BB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7FA9B-52DC-4AC1-84CD-C41C6099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EBDF-5D7D-40B6-A2BE-CDC6E28D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228D6-42FF-49F9-B8B5-7E90E616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EA101-14FE-4F2C-8854-BE14D86F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BFD53-6475-48FE-B98F-DD3D8ADA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186-F2DC-4915-A64C-6D076FBF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602-9C29-4582-BF64-D73551D1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752-AB3F-45A9-97FC-127D8BE6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B1E-CA7A-4EC7-B6D4-F5878B52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DD4-92C1-4EB0-8210-B57D8425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D04-025C-4D36-B690-CCEA8556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C779-25CA-40BE-AF0A-AE9E879E0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F97F-AE35-45F0-815A-A1BEFD501B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55AD-0CB9-4969-866D-7C321125800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thedailyshow.com/watch/thu-april-30-2009/large-hadron-collider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lluminations.nctm.org/ActivityDetail.aspx?ID=16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vLNOpoQztFo&amp;feature=related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1447920" y="722160"/>
            <a:ext cx="57704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ying with Number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Content Placeholder 3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346860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tatistics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rrelation vs. Causation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spcAft>
                <a:spcPts val="876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lief:  Fluoridated water causes cancer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lief:  Vaccines cause autism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math11"/>
          <p:cNvPicPr/>
          <p:nvPr/>
        </p:nvPicPr>
        <p:blipFill>
          <a:blip r:embed="rId1"/>
          <a:stretch/>
        </p:blipFill>
        <p:spPr>
          <a:xfrm>
            <a:off x="2525760" y="762120"/>
            <a:ext cx="4575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BIRTHDAY PROBLEM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f you have 23 people in a room, what is the probability that two of them will have the same birthday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And then there’s the </a:t>
            </a:r>
            <a:r>
              <a:rPr b="1" lang="en-US" sz="5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adron Collider…</a:t>
            </a:r>
            <a:br>
              <a:rPr sz="5400"/>
            </a:b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isunderstanding Probability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43200" y="259092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2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l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ich sounds worse?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176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woman born today has a 1 in 8 chance of developing breast cancer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8% of the women born today will never develop breast cancer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 couple has two children and at least one of them is a boy. What is the probability that their other child is a boy?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ammography Statistic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probability that a woman has breast cancer is 1%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f a woman has breast cancer, the probability that she tests positive is 90%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f a woman does not have breast cancer, the probability that she nevertheless tests positive is 9%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33520" y="487692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Out of 10 women with a positive mammogram, ~9 have breast can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Out of 10 women with a positive mammogram, ~1 has breast can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The probability that she has breast cancer is about 1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759240" y="3809880"/>
            <a:ext cx="753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oman has a positive mammogram. What is 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 of actually having breast canc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533520" y="365760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Guidelines for Preventing Math Error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eep track of all informa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paper trail)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 visual keys, such as arrow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eep track of unit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ate answer clearly, WITH UNIT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eck that your answer makes sens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752120"/>
            <a:ext cx="75852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s it safer to use vacuum systems than pressured systems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682920" y="295200"/>
            <a:ext cx="64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oday’s Safety Z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Group 10" descr=""/>
          <p:cNvPicPr/>
          <p:nvPr/>
        </p:nvPicPr>
        <p:blipFill>
          <a:blip r:embed="rId1"/>
          <a:stretch/>
        </p:blipFill>
        <p:spPr>
          <a:xfrm>
            <a:off x="1474920" y="4664160"/>
            <a:ext cx="61149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324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Graph Interpretation Problems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Graph vs. pic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lope vs. heigh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connect from data tabl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t Graphing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ithaca1"/>
          <p:cNvPicPr/>
          <p:nvPr/>
        </p:nvPicPr>
        <p:blipFill>
          <a:blip r:embed="rId1"/>
          <a:stretch/>
        </p:blipFill>
        <p:spPr>
          <a:xfrm>
            <a:off x="380880" y="1606680"/>
            <a:ext cx="4023000" cy="5029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thaca2"/>
          <p:cNvPicPr/>
          <p:nvPr/>
        </p:nvPicPr>
        <p:blipFill>
          <a:blip r:embed="rId2"/>
          <a:stretch/>
        </p:blipFill>
        <p:spPr>
          <a:xfrm>
            <a:off x="4873680" y="152280"/>
            <a:ext cx="4083120" cy="6705720"/>
          </a:xfrm>
          <a:prstGeom prst="rect">
            <a:avLst/>
          </a:prstGeom>
          <a:ln w="0">
            <a:noFill/>
          </a:ln>
        </p:spPr>
      </p:pic>
      <p:sp>
        <p:nvSpPr>
          <p:cNvPr id="146" name="Line 7"/>
          <p:cNvSpPr/>
          <p:nvPr/>
        </p:nvSpPr>
        <p:spPr>
          <a:xfrm>
            <a:off x="2209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759200" y="76320"/>
            <a:ext cx="43848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560840" y="3424320"/>
            <a:ext cx="43848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Distinguish misconceptions from errors. </a:t>
            </a:r>
            <a:br>
              <a:rPr sz="7200"/>
            </a:b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1">
            <a:hlinkClick r:id="rId1"/>
          </p:cNvPr>
          <p:cNvSpPr/>
          <p:nvPr/>
        </p:nvSpPr>
        <p:spPr>
          <a:xfrm>
            <a:off x="4267080" y="5867280"/>
            <a:ext cx="457200" cy="457200"/>
          </a:xfrm>
          <a:prstGeom prst="ellipse">
            <a:avLst/>
          </a:prstGeom>
          <a:solidFill>
            <a:srgbClr val="7f1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hich is bigger?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0" y="190512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/3 vs. 1/8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.36 vs. 4.2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g vs. mg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xamples of Math Misconception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36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ultiplication always creates bigger numbers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spcAft>
                <a:spcPts val="36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ultiplication by 10 adds a zero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Powers of Ten –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 Gahh!</a:t>
            </a:r>
            <a:endParaRPr b="1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982880" y="4038480"/>
            <a:ext cx="520992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r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vironmental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9:13:08Z</dcterms:created>
  <dc:creator>Cynthia J. Moore</dc:creator>
  <dc:description/>
  <dc:language>en-US</dc:language>
  <cp:lastModifiedBy>Cynthia J. Moore</cp:lastModifiedBy>
  <cp:lastPrinted>2011-04-05T20:02:30Z</cp:lastPrinted>
  <dcterms:modified xsi:type="dcterms:W3CDTF">2011-04-14T16:38:28Z</dcterms:modified>
  <cp:revision>77</cp:revision>
  <dc:subject/>
  <dc:title>Slide 1</dc:title>
</cp:coreProperties>
</file>